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E1F-B655-48A4-A368-D2138513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B48-77CF-4879-AC8B-418AE21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C11-F4BA-467A-9DA7-5F3AC649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895-44E8-4DF4-9153-7718DED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1910-FCDD-4A60-A77C-2E45EC1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D4F-2F2A-46AC-8B97-8B97A31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5753-D3FE-4919-A25B-D3AB78D2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66E1-61B7-4B36-817E-1E3318B9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38C1-D7C1-4FE6-9015-DDF1609B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231A-8E88-48C1-BCC4-66112B25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E3FF-ABA8-4241-95ED-4B44087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355-403A-4111-954C-383C100A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A03-9827-4868-A409-82FEF83B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6ED-387D-457F-A34F-162768B8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EE8F-9E26-498C-8BEA-F4A45DB9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3B3F-8BE8-4272-A5A4-A31B125D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27F9-7901-40B0-BE53-A9D88E20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8CF-9E11-492F-8D06-4CED3A2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33C-B549-4E1B-8C13-A8E62A84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80C-7623-44C8-9C45-1E69AF2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D50-3CEF-4361-8523-48EBC84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BCD-467A-492B-A74B-6370499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904-8C8B-4F76-BF3B-E5507E9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765-6692-48D8-A725-786E70D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961-A2F6-4377-8618-97C34382E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37C1-D6BC-4451-ACEF-7EC6FABAA1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     Clase 801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6 de noviembre del 2014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Propósito # 2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e hora duer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/empezar a j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equipos/ querer ga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/preferir marcar muchos ta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chez/querer meter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ortero/querer parar el b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quipo de Sanchez/no pe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5580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 a las 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ganar el part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marcar un ta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ierden ustedes a veces o ganan siemp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refieren ustedes jugar en el parque o en la ca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jugar al beisbol o al futb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jugar con un grupo de amigos o con un equipo for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jugar en el partido o prefieres mirar el part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refieres ser jugador(a) o espectador(o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Siempre quieres gan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Pierdes a ve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8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2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3657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la hoja FOR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cp:lastPrinted>2014-11-06T14:27:05Z</cp:lastPrinted>
  <dcterms:modified xsi:type="dcterms:W3CDTF">2014-11-06T14:28:05Z</dcterms:modified>
  <cp:revision>6</cp:revision>
  <dc:subject/>
  <dc:title>Me llamo __________    Clase 7 IM La fecha es el 2 de diciembre del 2010</dc:title>
</cp:coreProperties>
</file>